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6.jpeg" ContentType="image/jpeg"/>
  <Override PartName="/ppt/media/image10.pct" ContentType="image/x-pict"/>
  <Override PartName="/ppt/media/image7.jpeg" ContentType="image/jpeg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88E3-C6AB-4649-893C-67600E336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9769-50A3-4A55-A785-E1091B69A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C3F8-282B-41F6-8A64-71031FD80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3F7F-AC53-439F-8AF0-3E7825BAC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F shh mutants have some but not all characteristics of holoprosencephaly.  Oep mutants do.  Now know that Nodal is upstream regulator of Shh.  Oep is cofactor required for Nodal signaling and a target for therapeutic treatment of dis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C17-A700-41E2-875F-9BE2ADD2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DFA-DD79-4E4D-84EF-14AE556E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794-AD60-4BFA-BBB9-B7B89457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4307-1353-4B80-96AA-3B5AF851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B36-F55E-48D8-AF77-BEC6FC20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C27F-B400-4BEB-B318-4D7AD2F3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55F-D3E1-4593-A201-E98A209C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20A-3B80-457C-8FB0-55D49487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10C-FA94-4B94-B67B-813B76A3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BC4-4B57-4A5B-94A2-AE651541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11E-FACB-489F-B87A-1A34C8DA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C31-7E5A-4539-8603-7E0FD16A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F6C7-54CF-403B-B329-7EECE6DBE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4019400"/>
            <a:ext cx="2057400" cy="1084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4120" y="4019400"/>
            <a:ext cx="2133360" cy="108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609480" y="2057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Linking Anim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dels to Human Dise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962520" y="4019400"/>
            <a:ext cx="1218960" cy="107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09480" y="5410080"/>
            <a:ext cx="79250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upported by NIH P41 HG002659 and U54 HG0026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e University of Oregon, Eugene,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90280" y="6172200"/>
            <a:ext cx="21315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zf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54936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549360"/>
            <a:ext cx="86868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5480" y="3079800"/>
            <a:ext cx="4039560" cy="320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079800"/>
            <a:ext cx="3098880" cy="31831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F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mid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77080" y="39006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9080" y="2100240"/>
            <a:ext cx="3719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tomic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13360" y="316872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80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haracter 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048120"/>
            <a:ext cx="8305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or disease)  =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holoprosenceph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40240" y="2476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1680" y="2476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2635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oep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1044720"/>
          <a:ext cx="8001000" cy="588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44720"/>
                    <a:ext cx="8001000" cy="5889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41760" y="3755880"/>
            <a:ext cx="154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80880" y="1397160"/>
          <a:ext cx="8382240" cy="3609720"/>
        </p:xfrm>
        <a:graphic>
          <a:graphicData uri="http://schemas.openxmlformats.org/drawingml/2006/table">
            <a:tbl>
              <a:tblPr/>
              <a:tblGrid>
                <a:gridCol w="6793200"/>
                <a:gridCol w="158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Courier New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Courier New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Total ZFIN ge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0,3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Genes with assigned human ortholo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,8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Genes with OMIM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,1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Total ZFIN mut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3,1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ZFIN mutants with OMIM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Corresponding human ge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Drosophila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homologs of these 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1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6920" y="976320"/>
            <a:ext cx="777024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urier New"/>
                <a:ea typeface="ＭＳ Ｐゴシック"/>
              </a:rPr>
              <a:t>PATO developmen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est curation of zebrafish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nitial curation of phen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200 zebrafish mutations(Tübingen, M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orpholino phenotypes (Univ. of Minneso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400 Medaka mutations (Kyo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ffffff"/>
              </a:buClr>
              <a:buFont typeface="Courie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CToL - taxonomy &amp; phyloge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OBO-discuss email list for discu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143000"/>
            <a:ext cx="1522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1954080"/>
            <a:ext cx="63244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Melissa Haendel -anatomy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oug Howe -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rik Segerdell - P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ierra Taylor - databas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295280" y="5410080"/>
            <a:ext cx="6782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upported by NIH P41 HG002659 and U54 HG0026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niversity of Oregon, Eugene, Ore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61480" y="990720"/>
            <a:ext cx="21315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zf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59092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886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59092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3886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5493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22:04:12Z</dcterms:created>
  <dc:creator>Erik Segerdell</dc:creator>
  <dc:description/>
  <dc:language>en-US</dc:language>
  <cp:lastModifiedBy>Monte Westerfield</cp:lastModifiedBy>
  <cp:lastPrinted>2005-11-18T02:00:04Z</cp:lastPrinted>
  <dcterms:modified xsi:type="dcterms:W3CDTF">2005-11-19T00:33:27Z</dcterms:modified>
  <cp:revision>88</cp:revision>
  <dc:subject/>
  <dc:title>Ontologies for Gene Expression and Phenotypes</dc:title>
</cp:coreProperties>
</file>